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6DB-E6D8-4EE0-86A2-A58676FB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3C0-2DE8-44C6-846E-01C9C6CF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FBE-C054-4D06-82F9-C0CF6294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727-C735-4BE6-BEAE-F408D734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954-E19F-4773-A3A7-C0AF5401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2EB-2C71-4A2E-AFD6-24B405D6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5A0-FF13-4745-9E68-B80DCAE9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32C-0351-4060-9839-D0898FC3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54A-5677-4080-9B57-FCF96CC0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E29-112C-4CD8-A748-DD1F5FD4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AC1-0F2C-4707-9B13-56168D2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398-CEA5-4027-8222-DAC36329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EF9B-FE36-42EE-9C5D-018AAB79E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computerlab.wikispaces.com/Keyboarding" TargetMode="External"/><Relationship Id="rId2" Type="http://schemas.openxmlformats.org/officeDocument/2006/relationships/hyperlink" Target="http://dcomputerlab.wikispaces.com/Internet+Safety" TargetMode="External"/><Relationship Id="rId3" Type="http://schemas.openxmlformats.org/officeDocument/2006/relationships/hyperlink" Target="http://www.netsmartz.org/NetSmartzKids/PasswordRap" TargetMode="External"/><Relationship Id="rId4" Type="http://schemas.openxmlformats.org/officeDocument/2006/relationships/hyperlink" Target="http://www.media-awareness.ca/english/games/privacy_playground/index.cfm" TargetMode="External"/><Relationship Id="rId5" Type="http://schemas.openxmlformats.org/officeDocument/2006/relationships/hyperlink" Target="http://www.media-awareness.ca/english/games/privacy_playground/index.cfm" TargetMode="External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computerlab.wikispaces.com/Internet+Safety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and Dismiss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head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eyboar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eyboard Covers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Reading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lassroom teacher to provide actual test 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ssword 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irst Adventures of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yber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522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 Black"/>
              </a:rPr>
              <a:t>Augu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ing- Keyboard Covers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 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dventures of Cyber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16:25:48Z</dcterms:created>
  <dc:creator>dcomputerlab</dc:creator>
  <dc:description/>
  <dc:language>en-US</dc:language>
  <cp:lastModifiedBy>Dawson</cp:lastModifiedBy>
  <dcterms:modified xsi:type="dcterms:W3CDTF">2011-08-30T03:49:23Z</dcterms:modified>
  <cp:revision>9</cp:revision>
  <dc:subject/>
  <dc:title>August</dc:title>
</cp:coreProperties>
</file>